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274-E4DC-4367-B9B2-EC41D3A5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8FE-71AA-43D4-B33E-CF637D06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3AA-DC28-44A5-A15F-10B312B4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4A9-17A2-47DD-8AFB-4F812517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FAA2-D18A-46F7-BDD1-A59199B8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194F-BB05-4225-9589-03D46584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6406-8DBF-49A7-AE89-89CF6458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E5E9-AE95-4592-BCD7-0FA178E3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85B0-A4F0-456E-8252-E0655285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C6FF-DC3C-4CEA-B0BC-B98C1119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663E-A7FB-44F6-9BA2-A6007CF8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C26-625B-4588-BE2E-1DAA69E3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66D5-B20D-4061-A3B4-C668B4BE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F329-D6A2-4F65-90FB-787E5C7F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CE26-4899-4E36-BA2B-59BAF006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5594-22F8-45DD-AEA2-8DECD8ED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CBDA-EF08-4F10-B1DB-363BDB65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633-C520-4CC9-B725-2B9E014B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22E-7B27-49D7-9964-4F21A596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AE6-B919-483F-829C-10E0176F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18E-88C5-4284-9550-CF70A5D9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C36-0A9F-4A7B-9A2A-4FBF7873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717-4FA5-44D9-B025-154568EB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80A-47A4-44E0-8F40-0143345C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8136-9649-4610-A9F1-8BF549AE8F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BE9C-C85F-4BBD-B736-30878ADD95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urchon.com/biology/cells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114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Cell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116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 do you think plant cells have one large vacuole but animal cells have several smaller vacuole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>
            <a:hlinkClick r:id="rId2"/>
          </p:cNvPr>
          <p:cNvSpPr/>
          <p:nvPr/>
        </p:nvSpPr>
        <p:spPr>
          <a:xfrm>
            <a:off x="3429000" y="39625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919" h="21600">
                <a:moveTo>
                  <a:pt x="1295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919" h="21600">
                <a:moveTo>
                  <a:pt x="10383" y="8224"/>
                </a:moveTo>
                <a:lnTo>
                  <a:pt x="14247" y="8224"/>
                </a:lnTo>
                <a:lnTo>
                  <a:pt x="14247" y="15221"/>
                </a:lnTo>
                <a:lnTo>
                  <a:pt x="15536" y="15221"/>
                </a:lnTo>
                <a:lnTo>
                  <a:pt x="15536" y="16144"/>
                </a:lnTo>
                <a:lnTo>
                  <a:pt x="10383" y="16144"/>
                </a:lnTo>
                <a:lnTo>
                  <a:pt x="10383" y="15221"/>
                </a:lnTo>
                <a:lnTo>
                  <a:pt x="11671" y="15221"/>
                </a:lnTo>
                <a:lnTo>
                  <a:pt x="11671" y="9129"/>
                </a:lnTo>
                <a:lnTo>
                  <a:pt x="10383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21:12Z</dcterms:created>
  <dc:creator>PritchaJ</dc:creator>
  <dc:description/>
  <dc:language>en-US</dc:language>
  <cp:lastModifiedBy>PritchaJ</cp:lastModifiedBy>
  <dcterms:modified xsi:type="dcterms:W3CDTF">2011-06-01T15:23:55Z</dcterms:modified>
  <cp:revision>1</cp:revision>
  <dc:subject/>
  <dc:title>Slide 1</dc:title>
</cp:coreProperties>
</file>